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BEEA-7F5F-4398-9526-94672AC0F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C3C-1A0C-4722-9174-C282F3E05C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6830-2362-4F03-B76A-19509E17DF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769-7D53-4D4A-8D58-7F91CD51B4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A4A-F469-44CD-9794-7D7F2408AA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9AB4-D864-475B-AFC1-011DBFEAA3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17AE-D7ED-434A-BE15-D582F9693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93AA-6CBE-42C9-AAD8-8F8EEC5FD1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9F8E-BAB0-4423-9D7D-B5ED1F9649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6AC4-E059-4588-9950-E113A5104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253D-8598-42EF-8242-62639881A0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A8B-0D44-4C8F-97FE-178AF56E7C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A55A-6F3F-4107-B64D-C207098F0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5DB8-1CC0-48C0-AE37-3403BB9A6F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CBC2-DCF3-4118-94FC-A5E7CA6263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782-6149-4AC2-9E01-4EF7C515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CE7-1762-46A6-B0D4-44295C9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385-F454-4582-BD9A-015F5E1D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9CD-40C7-417C-8539-CFD12406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3744-7248-4730-BA23-9690A025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E1BE-7AF6-4507-9988-3328A7D2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3541-F269-487A-8A0D-AD6625C2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440B-D113-4A95-BAF0-C8591044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CE8F-1D50-4FF1-B593-B39B46A3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FEEF-2F06-4900-A864-5FC06B4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37A1-DB4B-43D1-9FA8-8D7E2DD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37B-D743-4963-9726-5491C263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BA40-1C34-4B77-8495-D7AE846E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D029-BC12-476C-938A-4122F41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C144-3DFD-4F1D-B6C0-A592A00E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C01D-9961-401B-BD79-6D56D34A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64D5-1596-4191-9466-A1482A14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2D8-5D2D-40B2-953D-6DB7FFC7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CDB-389C-4E63-9C71-3B1B3042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4A4-56BF-4934-AE06-6C026F4F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C7A-836F-4AB5-A85C-99A462CB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143-0355-434D-BD15-3CD9C32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007-8627-47BD-A12C-B71E74F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7ED-2A93-468C-97CC-47C0BD83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Rectangle 3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0" y="5797440"/>
                <a:ext cx="919080" cy="10764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89040" y="5797440"/>
                <a:ext cx="919080" cy="10764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1395360" y="5797440"/>
                <a:ext cx="920880" cy="10764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103480" y="5797440"/>
                <a:ext cx="919080" cy="107640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811600" y="5797440"/>
                <a:ext cx="919080" cy="10764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517920" y="5797440"/>
                <a:ext cx="920880" cy="10764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206960" y="5797440"/>
                <a:ext cx="919080" cy="10764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915080" y="5797440"/>
                <a:ext cx="919080" cy="107640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41920" y="5797440"/>
                <a:ext cx="919080" cy="10764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367320" y="5797440"/>
                <a:ext cx="919440" cy="10764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3600" y="5797440"/>
                <a:ext cx="919080" cy="107640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840800" y="5797440"/>
                <a:ext cx="919080" cy="107640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593200" y="6072120"/>
                <a:ext cx="574560" cy="80172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0511-47FE-4CC4-ABCD-7E3DCEE42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5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Freeform 6"/>
                <p:cNvSpPr/>
                <p:nvPr/>
              </p:nvSpPr>
              <p:spPr>
                <a:xfrm>
                  <a:off x="0" y="5797440"/>
                  <a:ext cx="917640" cy="107640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7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8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9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0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1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2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3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4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16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Freeform 19"/>
            <p:cNvSpPr/>
            <p:nvPr/>
          </p:nvSpPr>
          <p:spPr>
            <a:xfrm>
              <a:off x="0" y="2760840"/>
              <a:ext cx="819000" cy="1449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C7AF-E413-4B22-AAED-5B34861FF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ing the number of protons and neutr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 has a mass number of 7 and an atomic number of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3 (same as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= 7-3 = 4 (mass # -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 has a mass number of 20 and an atomic number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 = 20 - 10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about the electr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s are equal to the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p =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:  He has a mass # of 4 and an atomic #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p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e the number of subatomic particles in the following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 has a mass # of 35 and an atomic # of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 has a mass # of 39 and an atomic # of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exactly are the particles arrange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the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viewers think this could lead to misconcepti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267080" y="3581280"/>
            <a:ext cx="609840" cy="609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886200" y="320040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3657600" y="2971800"/>
            <a:ext cx="182880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3429000" y="2743200"/>
            <a:ext cx="228600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3200400" y="2514600"/>
            <a:ext cx="27432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4723920" y="297180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55308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l of the protons and the neutr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4495680" y="44197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4495680" y="30481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487692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5334120" y="3429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4876920" y="2971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411480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17"/>
          <p:cNvSpPr/>
          <p:nvPr/>
        </p:nvSpPr>
        <p:spPr>
          <a:xfrm>
            <a:off x="3733920" y="32767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4191120" y="289548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5334120" y="41911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20"/>
          <p:cNvSpPr/>
          <p:nvPr/>
        </p:nvSpPr>
        <p:spPr>
          <a:xfrm>
            <a:off x="3657600" y="4114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655308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22"/>
          <p:cNvSpPr/>
          <p:nvPr/>
        </p:nvSpPr>
        <p:spPr>
          <a:xfrm flipH="1" flipV="1">
            <a:off x="5257800" y="3885840"/>
            <a:ext cx="1295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617220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24"/>
          <p:cNvSpPr/>
          <p:nvPr/>
        </p:nvSpPr>
        <p:spPr>
          <a:xfrm flipH="1" flipV="1">
            <a:off x="5257800" y="441936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2514600" y="373392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1066680" y="3352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1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1447920" y="43434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and any after can hold up to 3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9"/>
          <p:cNvSpPr/>
          <p:nvPr/>
        </p:nvSpPr>
        <p:spPr>
          <a:xfrm flipV="1">
            <a:off x="2819520" y="464796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es carbon look lik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# = 12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ic # =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4572000" y="35053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3733920" y="2590920"/>
            <a:ext cx="1981080" cy="2057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114800" y="2971800"/>
            <a:ext cx="121932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553080" y="2819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6 p and 6 n live in the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4876920" y="3124080"/>
            <a:ext cx="1676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5105520" y="3962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4648320" y="45720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14"/>
          <p:cNvSpPr/>
          <p:nvPr/>
        </p:nvSpPr>
        <p:spPr>
          <a:xfrm>
            <a:off x="5562720" y="3657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is an ato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:  the smallest unit of matter that retains the identity of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proposed by Democrit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are composed of 2 reg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cleus:  the center of the atom that contains the mass of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 cloud:  region that surrounds the nucleus that contains most of the space in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4800600" y="4267080"/>
            <a:ext cx="144792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5638680" y="48002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4038120" y="495288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6294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743200" y="46483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’s in the Nucle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ucleus contains 2 of the 3 subatomic partic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:  positive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:  neutral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’s in the Electron Clou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ubatomic particle resides outside of the nucleus in the electro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:  the subatomic particle with a negative charge and relatively no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se particles interact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tons and neutrons live compacted in the tiny positively charged nucleus accounting for most of the mass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egatively charged electrons are small and have a relatively small mass but occupy a large volume of space outside the nucle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 subatomic particles balance each other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an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rotons = th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20 protons are present in an atom then 20 electrons are there to balance the overall charge of the atom—atoms are neu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utrons have no charge; therefore they do not have to equal the number of protons or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we know the number of subatomic particles in an atom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omic number:  this number indicates the number of protons in an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 Hydrogen’s atomic number i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 hydrogen has 1 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 Carbon’s atomic number is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 carbon has 6 pr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*The number of protons identifies the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.  2 protons = He, 29 protons = 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number:  the number of protons and neutrons in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:  hydrogen can have a mass of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nce it has 1 proton it must have 0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# of neutrons = mass # -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we know the number of subatomic particles in an atom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3:16:44Z</dcterms:created>
  <dc:creator>jcameron</dc:creator>
  <dc:description/>
  <dc:language>en-US</dc:language>
  <cp:lastModifiedBy>jcameron</cp:lastModifiedBy>
  <dcterms:modified xsi:type="dcterms:W3CDTF">2013-03-07T15:00:21Z</dcterms:modified>
  <cp:revision>15</cp:revision>
  <dc:subject/>
  <dc:title>Atomic Structure</dc:title>
</cp:coreProperties>
</file>